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037-259E-481A-8177-967EC2B9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FF2-F535-41ED-B5BF-3E5F4AAC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944A-E35C-4009-AA01-1BFC1959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4DE-C3B3-48C2-BEF2-06C9491F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B2AB-3B21-435F-8E04-4A738389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3486-8B46-4D8A-B410-5E1F93D4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77D0-099D-4299-8D71-332E5057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D678-5DF3-425A-8E4A-96DA79C1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BD34-1D9E-49EB-AAD8-CEF9CA7A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A4B5-D420-47ED-B0F6-A467CDD6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040F-F02F-443F-8096-645F8AC2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BE4-0E5A-425C-9DE9-87DE4C79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461E-5C54-4914-887B-193CE183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AE30-6077-485C-AD53-C07F6B24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93FD-BA43-4865-B09A-A23CF373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A372-59E1-4CF1-BF25-9D5BBE3A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F940-7ACB-4895-B9EC-1A83D01E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267E-24A1-4547-A47D-BA9FE4E1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BD3-A894-4146-A286-9A69D07C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A99-BB80-47BD-A03B-1C6125DA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666-BFD3-4FC4-A3D5-611AD30A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DE7-354F-4F68-A4E0-AEAC3AE1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B89-2C2C-42E8-998A-A1924157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9B05-9F41-4083-9B5F-5C50E756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4E89-4B66-4361-8F10-DF4572742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423E-1DE6-4079-997D-889CB6E16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Tug of War</a:t>
            </a:r>
            <a:br>
              <a:rPr sz="4100"/>
            </a:br>
            <a:r>
              <a:rPr b="0" i="1" lang="en-US" sz="1600" spc="-1" strike="noStrike">
                <a:solidFill>
                  <a:srgbClr val="336666"/>
                </a:solidFill>
                <a:latin typeface="Arial Black"/>
              </a:rPr>
              <a:t>A real-time strategy with first person action.</a:t>
            </a:r>
            <a:endParaRPr b="0" i="1" lang="en-US" sz="1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y: Earl Lamson II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l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sign each module after researching it’s librar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eculative Or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ld Module – ODE,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me Module – Lua,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ics Module – Direct3D,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 Module – DirectInput, control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nd Module – FMOD, 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l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ecution Enviro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ndows X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velopment Enviro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ual Studio .NET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++, Lu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gle file executable instal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mphasis on harvesting library functional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ercise in integrating middlewa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iral model to encourage change throughout the project’s lif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rack my project progress at http://student.uaa.alaska.edu/asiel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ame Descrip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bination of a real-time strategy (RTS) and a first person shooter (FPS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layed in a 3D world on a rectangular playfield populated with trees and rock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l a large heavy object into your goal are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wo play mo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 Mode – RTS sty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tar Mode – FPS sty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ame Descrip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ies – produce buildings, units, and upgr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yors – transport resources to fac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ret – attack enem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herers – Normal puller, fast firing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diers – Offensive weapons, weak puller, fast firing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llers –powerful puller, slow firing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ame Descrip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een – for building defensive upgrades and buil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llow – for building puller upgrades and pu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 – for building offensive upgrades and sold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pgrad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max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er force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r projectile lifes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firing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ser Interfa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mand Mo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n and zo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 or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new buil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upgr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it scrip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191120" y="2133720"/>
          <a:ext cx="4419360" cy="33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133720"/>
                    <a:ext cx="4419360" cy="33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User Interfac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vatar Mo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per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d pi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ve and ju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9880" y="2068560"/>
          <a:ext cx="4648320" cy="35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068560"/>
                    <a:ext cx="4648320" cy="35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/O Requirement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heres, boxes, cylinders, capsules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tex lighting and col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reo samples played for game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 defined contr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l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piral Development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3D – Graph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Input – Mouse, key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MOD – Sound, mus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DE – Physics (RBD, colde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ua - Scrip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la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33720" y="2666880"/>
          <a:ext cx="471168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666880"/>
                    <a:ext cx="47116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3:43:51Z</dcterms:created>
  <dc:creator>Earl Lamson III</dc:creator>
  <dc:description/>
  <dc:language>en-US</dc:language>
  <cp:lastModifiedBy>Earl Lamson III</cp:lastModifiedBy>
  <dcterms:modified xsi:type="dcterms:W3CDTF">2006-02-16T09:36:51Z</dcterms:modified>
  <cp:revision>3</cp:revision>
  <dc:subject/>
  <dc:title>Tug of War</dc:title>
</cp:coreProperties>
</file>